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DFD9-1C9A-4A03-8370-0FA087110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5EE5-228C-48FD-8C2C-C882AB6F1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0480-5A47-468C-9EAE-52760EE51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C486-B959-4A4E-A2C3-A74EEA148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8BF194-FFC5-4C58-9994-839B5BA57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7F568B-BECF-4B6A-A43E-71951A3C2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4EA911-BA59-4763-BE0F-7174E3BA0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A377FB-00F7-41EB-A91A-1F36061D4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0BC6A3-3D74-4045-B36C-5CBADE61F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D5DE25-1864-4D12-8CDD-AF9FEB0C7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6783CB-D13C-4D6B-AB1C-23CAC6180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FA67-0EA1-423C-818A-8A18CF9B0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776AF4-807B-41F1-94F4-7B9061490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780DFF-E8C9-4E6D-A91C-1784043B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2E6D9A-9138-4FAD-81A7-3F45512E2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293729-BBBA-45C2-9AA5-B81C66D1C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A9D64F-A68F-4F02-9F6E-8B78C241C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3CC3-F547-4F05-9D99-B1BB85795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05FA-B3A7-44C6-8B77-7E6F4633C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875C-CE6B-4968-8F94-1EF692FA3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8786-073F-4ECA-AF3A-6C54773AD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0768-73CD-4E03-AACD-A2EE5D8D4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1C90-0317-4593-A25A-8808988C2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853C-1CBA-4790-891D-9BD2F9B5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9D059-80CA-48B4-A474-8AB017EB44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63B5B-E42D-4072-83B6-B7760681A3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6643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-124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120"/>
            <a:ext cx="8229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6 - Time budget model of the AIS serv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d-to-end timing consider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leness - when is data too old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nsmission queu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ltiple recep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67120"/>
            <a:ext cx="8229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7 - Reliability model of the AIS serv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SS redundancy issues, et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602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VDL Managemen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400040" y="1905120"/>
            <a:ext cx="6345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68040"/>
            <a:ext cx="82296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14 - FATDMA planning and operation of an AIS Serv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idelines for FATDMA configuration setup of AIS shorest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gorithm to calculate the FATDMA geographical gridscheme on a global ba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68040"/>
            <a:ext cx="82296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17 - Channel Management by an AIS Serv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idelines for Channel Management for an AIS Serv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idelines for the use of DSC capabilities with regard to the A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lculations with regard to DSC channel management comm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idelines: Channel manag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67120"/>
            <a:ext cx="8229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15 - Assigned mode operation of an AIS Serv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idelines for Assigned Mode operation by ans AIS Serv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68040"/>
            <a:ext cx="82296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18 - General loading management by an AIS Serv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pacity balance of the AIS VDL by AIS Service(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rvices operating on the VDL simultaneous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67120"/>
            <a:ext cx="8229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mplementaton, installation and maintenan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57200" y="2413080"/>
            <a:ext cx="822960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403200"/>
            <a:ext cx="822960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13 - Recommendation regarding efficient operation and maintenance of the AIS Serv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4969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ntral maintenance manag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 specific for the AIS service?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68040"/>
            <a:ext cx="82296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12 - Installation guidelines for AIS shore sta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chnical guidance for installation of an AIS shores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action between AIS related services and other (maritime mobile) services operating in the same shores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dressing coverage issu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ight be covered by referencing to another pap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mething might come from the guideli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02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-124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286080" y="1905120"/>
            <a:ext cx="2571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120"/>
            <a:ext cx="8229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unctional components of the AIS Serv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728720" y="1905120"/>
            <a:ext cx="5688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67120"/>
            <a:ext cx="8229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3 - Interaction model of the AIS serv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raction between the components of the AIS Serv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67120"/>
            <a:ext cx="8229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layerd structure of the AIS Serv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idelines: The layers of AIS serv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67120"/>
            <a:ext cx="8229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10 - Functional description of the PS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idelines: Repeat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ta stor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hysical AIS Shore Station Lay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idelines for secondary syncronisation by an AIS Serv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67120"/>
            <a:ext cx="8229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9 - Functional description of the LS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case of the Logical AIS Shore s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idelines on retransmission using VDM from an AIS Serv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uidelines: retransmis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ta stor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67120"/>
            <a:ext cx="8229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11 - Functional description of the AS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 cases of the AIS service manag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ta stor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67120"/>
            <a:ext cx="8229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16 - DGNSS broadcast from an AIS Serv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idelines for DGNSS correction broadcast from an AIS Serv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rfacing the DGNSS correction service to the AIS Base S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idelines: DGN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eds revi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rious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02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Gener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57200" y="2921040"/>
            <a:ext cx="8229600" cy="20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2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ervice Mode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247760" y="1905120"/>
            <a:ext cx="6649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67120"/>
            <a:ext cx="8229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1 - AIS Service Generic Use Cases (Basic AIS services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Functional interface between the shorebased applications and the AIS Service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Basic AIS Services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Other material: e-NAV1-09-07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Divide into ?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76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External AIS Services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These are the services provided to higher layers, for which interfaces are required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76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Internal AIS services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covers internal management aspects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76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Failurre handeling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Stefan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68040"/>
            <a:ext cx="82296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4 - Data and data storage / mining model of the AIS serv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1621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ta mining outside the AIS Serv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67120"/>
            <a:ext cx="8229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5 - Interfacing model of the AIS Serv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IS Data Transfer Networ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uidelines: Data transf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mploying TCP/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P protocol'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eprocessing and interfacing to the AIS Networ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ssaging sentences / structu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'IALA sentences'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IEC sentences (Base station sentence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120"/>
            <a:ext cx="8229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8 - Test model for the AIS serv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st strateg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602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sign condira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57200" y="2516040"/>
            <a:ext cx="822960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9T15:27:09Z</dcterms:created>
  <dc:creator>Jens Kristian Jensen</dc:creator>
  <dc:description/>
  <dc:language>en-US</dc:language>
  <cp:lastModifiedBy>Jens Kristian Jensen</cp:lastModifiedBy>
  <dcterms:modified xsi:type="dcterms:W3CDTF">2007-01-19T15:27:15Z</dcterms:modified>
  <cp:revision>1</cp:revision>
  <dc:subject/>
  <dc:title>A-124</dc:title>
</cp:coreProperties>
</file>